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0773-73C3-4ACD-A608-A864DF02A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C649-1697-4E7F-8236-1F3E31B8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4421-514D-4100-A432-271C6E16E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A276-4999-41F9-8146-C6F150790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C489-F2B9-4089-9B7F-FD7D13FF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7AEE-923D-4017-AA6A-F9D2226F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C185-44F4-4351-B658-566F8530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4395-71F9-411D-AACB-CC337783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3777-EF91-4F69-856F-7ACF23D4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72C7-B8EC-456C-AEA8-4189E71F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E706-1717-4A99-8B68-D290C5FF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89B3-E120-4EAD-BD5F-436AEBE6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C5DA-D799-4C9D-9381-61B1EE450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40" y="151920"/>
            <a:ext cx="89154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Arial"/>
              </a:rPr>
              <a:t>Me llamo ___________  Clase 702</a:t>
            </a:r>
            <a:br>
              <a:rPr sz="4000"/>
            </a:br>
            <a:r>
              <a:rPr b="0" lang="en-US" sz="4000" spc="-1" strike="noStrike">
                <a:solidFill>
                  <a:srgbClr val="00b050"/>
                </a:solidFill>
                <a:latin typeface="Arial"/>
              </a:rPr>
              <a:t>La fecha es el  23 de enero del 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5960" y="1599840"/>
            <a:ext cx="8762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osito # 46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repasamos para QUIZ 2: CAPITULO 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rite 2 Spanish sentences about each s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beis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te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basquet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iz 2: Capitulo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DOS DEPORTES POPULARES EN ESTADOS UN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533520" y="2971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21:06:12Z</dcterms:created>
  <dc:creator>Helen Zumaeta</dc:creator>
  <dc:description/>
  <dc:language>en-US</dc:language>
  <cp:lastModifiedBy>Helen Zumaeta</cp:lastModifiedBy>
  <cp:lastPrinted>2015-01-23T14:39:15Z</cp:lastPrinted>
  <dcterms:modified xsi:type="dcterms:W3CDTF">2015-01-23T14:58:19Z</dcterms:modified>
  <cp:revision>38</cp:revision>
  <dc:subject/>
  <dc:title>Me llamo ___________  Clase 7 IM La fecha es el 18 de noviembre del 2010</dc:title>
</cp:coreProperties>
</file>